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8331-4B67-4ADB-B7B4-E8DF70861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687B-4285-4BB0-93D4-9DE1088B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A26C-C28A-4E64-B115-D5D109D06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2522-A49F-477C-907B-C94233317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2DE9-001C-44DE-9296-1FB8A986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F979-9157-4777-B1E3-F1852C61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EE79-26FE-4C1B-974B-F8549236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D598-8CDF-401F-B88D-35D233E4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F26E-12C7-46DB-A366-FA889E1D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54CD-5209-42A9-8902-F4CF1E11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1A44-008D-4C91-9ECF-10CC0E9C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CF18-CD58-4700-A253-1E3931C9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4232-E002-4AAA-9398-AF055CD3A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radley Hand ITC"/>
              </a:rPr>
              <a:t>Characteristics of Children’s Boo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It’s simple, the drawings are simple and easy to understand. The plot is also simple. The story is easy to understand, the words are easy to rea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The boy thinks the tree talks to him like an imaginary friend that kids might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It is an easy to read book for young children. It is written with child menta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radley Hand ITC"/>
              </a:rPr>
              <a:t>Characteristics of Children’s Boo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This book is suitable for young readers because it sends an important message to very impressionable children, that love can, and will last forever, no matter the situ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Not too many pages, and not too many words on one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7T12:26:49Z</dcterms:created>
  <dc:creator>Administrator</dc:creator>
  <dc:description/>
  <dc:language>en-US</dc:language>
  <cp:lastModifiedBy>Administrator</cp:lastModifiedBy>
  <dcterms:modified xsi:type="dcterms:W3CDTF">2006-05-17T13:19:32Z</dcterms:modified>
  <cp:revision>2</cp:revision>
  <dc:subject/>
  <dc:title>Slide 1</dc:title>
</cp:coreProperties>
</file>